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51.png" ContentType="image/png"/>
  <Override PartName="/ppt/media/image8.png" ContentType="image/png"/>
  <Override PartName="/ppt/media/image39.jpeg" ContentType="image/jpeg"/>
  <Override PartName="/ppt/media/image45.jpeg" ContentType="image/jpeg"/>
  <Override PartName="/ppt/media/image30.png" ContentType="image/png"/>
  <Override PartName="/ppt/media/image43.png" ContentType="image/png"/>
  <Override PartName="/ppt/media/image46.png" ContentType="image/png"/>
  <Override PartName="/ppt/media/image41.png" ContentType="image/png"/>
  <Override PartName="/ppt/media/image48.jpeg" ContentType="image/jpeg"/>
  <Override PartName="/ppt/media/image50.png" ContentType="image/png"/>
  <Override PartName="/ppt/media/image40.png" ContentType="image/png"/>
  <Override PartName="/ppt/media/image52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38.jpeg" ContentType="image/jpeg"/>
  <Override PartName="/ppt/media/image4.png" ContentType="image/png"/>
  <Override PartName="/ppt/media/image34.png" ContentType="image/png"/>
  <Override PartName="/ppt/media/image4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4140-213F-4E29-979D-B20B61704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403A-2E82-4C1A-A7B8-CE5FD02D0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FBD3-760E-4A66-860A-24260E572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5178-0434-4E15-97B6-BCD1F8E42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FA4E-54DE-4CAB-A716-AC4A8D8E3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BDEF-DF3E-4F89-9611-0400E462B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969E-283F-45DA-BD14-5C6302909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7ACF-E479-4448-98A0-49091F779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85E7-C35B-4FB7-AE2B-7667E9827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5A5F-CDAB-46C3-849D-55580E3E6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2071-DA4B-4975-B633-F99C2B26C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F4EF-03F2-4D94-8661-C24CB88C1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DE09-CF47-43E5-824D-4437B9F1A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C910-E297-4655-8702-72A4073CB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7954-2F88-4058-BB1A-27737D8E8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B984-E5A3-47FA-AB53-03E98CDBB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8167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720" y="3731400"/>
            <a:ext cx="8167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72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9008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6280" y="13032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8200" y="13032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20" y="37314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6280" y="37314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8200" y="37314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4720" y="1303200"/>
            <a:ext cx="81676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8167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292640" y="240840"/>
            <a:ext cx="43308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472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4720" y="1303200"/>
            <a:ext cx="81676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008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720" y="3731400"/>
            <a:ext cx="8167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8167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720" y="3731400"/>
            <a:ext cx="8167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472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008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6280" y="13032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8200" y="13032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720" y="37314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6280" y="37314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8200" y="37314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4720" y="1303200"/>
            <a:ext cx="81676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8167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8167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292640" y="240840"/>
            <a:ext cx="43308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472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9008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4720" y="3731400"/>
            <a:ext cx="8167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8167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720" y="3731400"/>
            <a:ext cx="8167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472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9008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6280" y="13032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8200" y="13032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4720" y="37314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6280" y="37314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8200" y="37314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292640" y="240840"/>
            <a:ext cx="43308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472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9008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720" y="3731400"/>
            <a:ext cx="8167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303200"/>
            <a:ext cx="8167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8120" indent="-236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653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653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653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49" descr="CI_PROJECTS:Verizon:Verizon_27847_House_Style:04_Production_Dev:04_Stationery_Production:PowerPoint:2008_0515:art:vz_titleback_051508_opt1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30"/>
          <p:cNvSpPr/>
          <p:nvPr/>
        </p:nvSpPr>
        <p:spPr>
          <a:xfrm>
            <a:off x="0" y="6541920"/>
            <a:ext cx="9144000" cy="147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9" descr="newvzf_tf_w_g_p"/>
          <p:cNvPicPr/>
          <p:nvPr/>
        </p:nvPicPr>
        <p:blipFill>
          <a:blip r:embed="rId3"/>
          <a:stretch/>
        </p:blipFill>
        <p:spPr>
          <a:xfrm>
            <a:off x="4437000" y="420840"/>
            <a:ext cx="4210200" cy="67284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6"/>
          <p:cNvSpPr/>
          <p:nvPr/>
        </p:nvSpPr>
        <p:spPr>
          <a:xfrm>
            <a:off x="0" y="64778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Calibri"/>
              </a:rPr>
              <a:t>Copyright © 2010Verizon Foundation. All Rights Reserved.   This document may be reproduced and distributed solely for uses that are both (a) educational and (b) non-commercial. Any reproduction or distribution of this document for any other purpose, including commercial gain, is strictly prohibi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option1.jpg"/>
          <p:cNvPicPr/>
          <p:nvPr/>
        </p:nvPicPr>
        <p:blipFill>
          <a:blip r:embed="rId4"/>
          <a:srcRect l="0" t="0" r="79867" b="30"/>
          <a:stretch/>
        </p:blipFill>
        <p:spPr>
          <a:xfrm>
            <a:off x="7427880" y="5329080"/>
            <a:ext cx="1716120" cy="1465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4720" y="1303200"/>
            <a:ext cx="8167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8120" indent="-236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653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653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653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6" descr="CI_PROJECTS:Verizon:Verizon_27847_House_Style:04_Production_Dev:04_Stationery_Production:PowerPoint:2008_0516:art:PPT_Background_05160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030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2"/>
          <p:cNvSpPr/>
          <p:nvPr/>
        </p:nvSpPr>
        <p:spPr>
          <a:xfrm>
            <a:off x="8424720" y="6705720"/>
            <a:ext cx="46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2F3D-CC9B-4519-A0CE-B8D1EF84E06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1"/>
          <p:cNvSpPr/>
          <p:nvPr/>
        </p:nvSpPr>
        <p:spPr>
          <a:xfrm>
            <a:off x="0" y="6548400"/>
            <a:ext cx="9144000" cy="141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newvzf_tf_w_g_p"/>
          <p:cNvPicPr/>
          <p:nvPr/>
        </p:nvPicPr>
        <p:blipFill>
          <a:blip r:embed="rId3"/>
          <a:stretch/>
        </p:blipFill>
        <p:spPr>
          <a:xfrm>
            <a:off x="324000" y="331920"/>
            <a:ext cx="3303360" cy="528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option1.jpg"/>
          <p:cNvPicPr/>
          <p:nvPr/>
        </p:nvPicPr>
        <p:blipFill>
          <a:blip r:embed="rId4"/>
          <a:srcRect l="0" t="0" r="79867" b="30"/>
          <a:stretch/>
        </p:blipFill>
        <p:spPr>
          <a:xfrm>
            <a:off x="7427880" y="5329080"/>
            <a:ext cx="1716120" cy="14655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04720" y="1303200"/>
            <a:ext cx="8167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8120" indent="-236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653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653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653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6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2"/>
          <p:cNvSpPr/>
          <p:nvPr/>
        </p:nvSpPr>
        <p:spPr>
          <a:xfrm>
            <a:off x="0" y="2730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S User Profile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Trainer’s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Updated 4/25/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1" descr=""/>
          <p:cNvPicPr/>
          <p:nvPr/>
        </p:nvPicPr>
        <p:blipFill>
          <a:blip r:embed="rId1"/>
          <a:stretch/>
        </p:blipFill>
        <p:spPr>
          <a:xfrm>
            <a:off x="4487760" y="2131920"/>
            <a:ext cx="3451320" cy="27115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8"/>
          <p:cNvSpPr/>
          <p:nvPr/>
        </p:nvSpPr>
        <p:spPr>
          <a:xfrm>
            <a:off x="7500960" y="5729400"/>
            <a:ext cx="1434960" cy="74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4" descr="Image24.jpg"/>
          <p:cNvPicPr/>
          <p:nvPr/>
        </p:nvPicPr>
        <p:blipFill>
          <a:blip r:embed="rId2"/>
          <a:srcRect l="0" t="12118" r="3908" b="0"/>
          <a:stretch/>
        </p:blipFill>
        <p:spPr>
          <a:xfrm>
            <a:off x="5862600" y="2732040"/>
            <a:ext cx="3130560" cy="2602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27" name="Picture 19" descr="Image25.jpg"/>
          <p:cNvPicPr/>
          <p:nvPr/>
        </p:nvPicPr>
        <p:blipFill>
          <a:blip r:embed="rId3"/>
          <a:stretch/>
        </p:blipFill>
        <p:spPr>
          <a:xfrm>
            <a:off x="4203720" y="4734000"/>
            <a:ext cx="3665520" cy="1596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8" name="Line 5"/>
          <p:cNvSpPr/>
          <p:nvPr/>
        </p:nvSpPr>
        <p:spPr>
          <a:xfrm>
            <a:off x="2268360" y="4317840"/>
            <a:ext cx="2014560" cy="50832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"/>
          <p:cNvSpPr/>
          <p:nvPr/>
        </p:nvSpPr>
        <p:spPr>
          <a:xfrm flipV="1">
            <a:off x="2176560" y="3911760"/>
            <a:ext cx="3795480" cy="42840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 flipV="1">
            <a:off x="2130480" y="3460320"/>
            <a:ext cx="3819600" cy="85716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"/>
          <p:cNvSpPr/>
          <p:nvPr/>
        </p:nvSpPr>
        <p:spPr>
          <a:xfrm flipV="1">
            <a:off x="2187720" y="2893680"/>
            <a:ext cx="3749400" cy="140004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2187720" y="4282920"/>
            <a:ext cx="3738240" cy="12708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504720" y="1465200"/>
            <a:ext cx="81536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3000" indent="-11430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6b. Provide additional information regarding your area of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2013120" y="2766600"/>
            <a:ext cx="2477520" cy="1776600"/>
            <a:chOff x="2013120" y="2766600"/>
            <a:chExt cx="2477520" cy="1776600"/>
          </a:xfrm>
        </p:grpSpPr>
        <p:sp>
          <p:nvSpPr>
            <p:cNvPr id="235" name="Line 5"/>
            <p:cNvSpPr/>
            <p:nvPr/>
          </p:nvSpPr>
          <p:spPr>
            <a:xfrm flipV="1">
              <a:off x="2372760" y="2766600"/>
              <a:ext cx="2117880" cy="1390680"/>
            </a:xfrm>
            <a:prstGeom prst="line">
              <a:avLst/>
            </a:prstGeom>
            <a:ln cap="rnd" w="7632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Oval 8"/>
            <p:cNvGrpSpPr/>
            <p:nvPr/>
          </p:nvGrpSpPr>
          <p:grpSpPr>
            <a:xfrm>
              <a:off x="2013120" y="3960720"/>
              <a:ext cx="667080" cy="582480"/>
              <a:chOff x="2013120" y="3960720"/>
              <a:chExt cx="667080" cy="582480"/>
            </a:xfrm>
          </p:grpSpPr>
          <p:pic>
            <p:nvPicPr>
              <p:cNvPr id="237" name="Oval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013120" y="3960720"/>
                <a:ext cx="667080" cy="58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2166480" y="4077720"/>
                <a:ext cx="3654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TextBox 12"/>
          <p:cNvSpPr/>
          <p:nvPr/>
        </p:nvSpPr>
        <p:spPr>
          <a:xfrm>
            <a:off x="522360" y="2297160"/>
            <a:ext cx="39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upon the choice(s) made for Area of Responsibility, you will be asked for addition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Rectangle 12" descr=""/>
          <p:cNvPicPr/>
          <p:nvPr/>
        </p:nvPicPr>
        <p:blipFill>
          <a:blip r:embed="rId5"/>
          <a:stretch/>
        </p:blipFill>
        <p:spPr>
          <a:xfrm>
            <a:off x="1785960" y="3962520"/>
            <a:ext cx="1006560" cy="609480"/>
          </a:xfrm>
          <a:prstGeom prst="rect">
            <a:avLst/>
          </a:prstGeom>
          <a:ln w="0">
            <a:noFill/>
          </a:ln>
        </p:spPr>
      </p:pic>
      <p:sp>
        <p:nvSpPr>
          <p:cNvPr id="241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8"/>
          <p:cNvSpPr/>
          <p:nvPr/>
        </p:nvSpPr>
        <p:spPr>
          <a:xfrm>
            <a:off x="7500960" y="5729400"/>
            <a:ext cx="1434960" cy="74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Oval 27"/>
          <p:cNvGrpSpPr/>
          <p:nvPr/>
        </p:nvGrpSpPr>
        <p:grpSpPr>
          <a:xfrm>
            <a:off x="512640" y="2530440"/>
            <a:ext cx="669960" cy="584280"/>
            <a:chOff x="512640" y="2530440"/>
            <a:chExt cx="669960" cy="584280"/>
          </a:xfrm>
        </p:grpSpPr>
        <p:pic>
          <p:nvPicPr>
            <p:cNvPr id="244" name="Oval 27" descr=""/>
            <p:cNvPicPr/>
            <p:nvPr/>
          </p:nvPicPr>
          <p:blipFill>
            <a:blip r:embed="rId1"/>
            <a:stretch/>
          </p:blipFill>
          <p:spPr>
            <a:xfrm>
              <a:off x="512640" y="2530440"/>
              <a:ext cx="6699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65280" y="2644920"/>
              <a:ext cx="3697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Oval 27"/>
          <p:cNvGrpSpPr/>
          <p:nvPr/>
        </p:nvGrpSpPr>
        <p:grpSpPr>
          <a:xfrm>
            <a:off x="4505400" y="3316320"/>
            <a:ext cx="676080" cy="590400"/>
            <a:chOff x="4505400" y="3316320"/>
            <a:chExt cx="676080" cy="590400"/>
          </a:xfrm>
        </p:grpSpPr>
        <p:pic>
          <p:nvPicPr>
            <p:cNvPr id="247" name="Oval 27" descr=""/>
            <p:cNvPicPr/>
            <p:nvPr/>
          </p:nvPicPr>
          <p:blipFill>
            <a:blip r:embed="rId2"/>
            <a:stretch/>
          </p:blipFill>
          <p:spPr>
            <a:xfrm>
              <a:off x="4505400" y="3316320"/>
              <a:ext cx="67608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659480" y="3432240"/>
              <a:ext cx="371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4"/>
          <p:cNvSpPr/>
          <p:nvPr/>
        </p:nvSpPr>
        <p:spPr>
          <a:xfrm>
            <a:off x="457200" y="1301760"/>
            <a:ext cx="73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ote: Educators should select their school or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22"/>
          <p:cNvGrpSpPr/>
          <p:nvPr/>
        </p:nvGrpSpPr>
        <p:grpSpPr>
          <a:xfrm>
            <a:off x="220680" y="1866960"/>
            <a:ext cx="8597880" cy="4228920"/>
            <a:chOff x="220680" y="1866960"/>
            <a:chExt cx="8597880" cy="4228920"/>
          </a:xfrm>
        </p:grpSpPr>
        <p:pic>
          <p:nvPicPr>
            <p:cNvPr id="251" name="Picture 17" descr="Image3.jpg"/>
            <p:cNvPicPr/>
            <p:nvPr/>
          </p:nvPicPr>
          <p:blipFill>
            <a:blip r:embed="rId3"/>
            <a:stretch/>
          </p:blipFill>
          <p:spPr>
            <a:xfrm>
              <a:off x="5443560" y="3287880"/>
              <a:ext cx="3375000" cy="28080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252" name="Picture 16" descr="Image1.jpg"/>
            <p:cNvPicPr/>
            <p:nvPr/>
          </p:nvPicPr>
          <p:blipFill>
            <a:blip r:embed="rId4"/>
            <a:stretch/>
          </p:blipFill>
          <p:spPr>
            <a:xfrm>
              <a:off x="220680" y="3929040"/>
              <a:ext cx="4635360" cy="14810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253" name="Text Box 3"/>
            <p:cNvSpPr/>
            <p:nvPr/>
          </p:nvSpPr>
          <p:spPr>
            <a:xfrm>
              <a:off x="574560" y="1866960"/>
              <a:ext cx="7926480" cy="15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089000" indent="-1089000"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tep 6c.  Click ‘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arch School or Organization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’ to select the school or organization that best identifies your lo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284040">
                <a:lnSpc>
                  <a:spcPct val="100000"/>
                </a:lnSpc>
                <a:spcBef>
                  <a:spcPts val="601"/>
                </a:spcBef>
                <a:buClr>
                  <a:srgbClr val="ff0000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Choose your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Country and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284040">
                <a:lnSpc>
                  <a:spcPct val="100000"/>
                </a:lnSpc>
                <a:spcBef>
                  <a:spcPts val="601"/>
                </a:spcBef>
                <a:buClr>
                  <a:srgbClr val="ff0000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Type in one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keyword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 of the school or organization – not the full 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284040">
                <a:lnSpc>
                  <a:spcPct val="100000"/>
                </a:lnSpc>
                <a:spcBef>
                  <a:spcPts val="601"/>
                </a:spcBef>
                <a:buClr>
                  <a:srgbClr val="ff0000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Click ‘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arch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>
              <a:off x="4897440" y="3635280"/>
              <a:ext cx="1644480" cy="825480"/>
            </a:xfrm>
            <a:prstGeom prst="line">
              <a:avLst/>
            </a:prstGeom>
            <a:ln cap="rnd" w="7632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21"/>
            <p:cNvGrpSpPr/>
            <p:nvPr/>
          </p:nvGrpSpPr>
          <p:grpSpPr>
            <a:xfrm>
              <a:off x="366840" y="2454120"/>
              <a:ext cx="1210680" cy="1779480"/>
              <a:chOff x="366840" y="2454120"/>
              <a:chExt cx="1210680" cy="1779480"/>
            </a:xfrm>
          </p:grpSpPr>
          <p:sp>
            <p:nvSpPr>
              <p:cNvPr id="256" name="Line 5"/>
              <p:cNvSpPr/>
              <p:nvPr/>
            </p:nvSpPr>
            <p:spPr>
              <a:xfrm>
                <a:off x="915120" y="3000960"/>
                <a:ext cx="662400" cy="1232640"/>
              </a:xfrm>
              <a:prstGeom prst="line">
                <a:avLst/>
              </a:prstGeom>
              <a:ln cap="rnd" w="76320">
                <a:solidFill>
                  <a:srgbClr val="ff99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7" name="Rectangle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366840" y="2454120"/>
                <a:ext cx="973080" cy="623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8" name="Rectangle 28" descr=""/>
            <p:cNvPicPr/>
            <p:nvPr/>
          </p:nvPicPr>
          <p:blipFill>
            <a:blip r:embed="rId6"/>
            <a:stretch/>
          </p:blipFill>
          <p:spPr>
            <a:xfrm>
              <a:off x="4352760" y="3243240"/>
              <a:ext cx="97488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8"/>
          <p:cNvSpPr/>
          <p:nvPr/>
        </p:nvSpPr>
        <p:spPr>
          <a:xfrm>
            <a:off x="7500960" y="5729400"/>
            <a:ext cx="1434960" cy="74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2" descr="4-4-2010 4-30-45 PM.jpg"/>
          <p:cNvPicPr/>
          <p:nvPr/>
        </p:nvPicPr>
        <p:blipFill>
          <a:blip r:embed="rId1"/>
          <a:stretch/>
        </p:blipFill>
        <p:spPr>
          <a:xfrm>
            <a:off x="3849840" y="2871720"/>
            <a:ext cx="4292280" cy="356256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62" name="Text Box 3"/>
          <p:cNvSpPr/>
          <p:nvPr/>
        </p:nvSpPr>
        <p:spPr>
          <a:xfrm>
            <a:off x="574560" y="1866960"/>
            <a:ext cx="792648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3000" indent="-11430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6d.  Scroll through the list, click 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’ by the name of your organization, then click 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 and Exit</a:t>
            </a:r>
            <a:r>
              <a:rPr b="1" lang="en-US" sz="2000" spc="-1" strike="noStrike">
                <a:solidFill>
                  <a:srgbClr val="bb4b0d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r click ‘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New Organization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’ if you do not see your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2043000" y="3638520"/>
            <a:ext cx="1809360" cy="572760"/>
            <a:chOff x="2043000" y="3638520"/>
            <a:chExt cx="1809360" cy="572760"/>
          </a:xfrm>
        </p:grpSpPr>
        <p:sp>
          <p:nvSpPr>
            <p:cNvPr id="264" name="Line 5"/>
            <p:cNvSpPr/>
            <p:nvPr/>
          </p:nvSpPr>
          <p:spPr>
            <a:xfrm>
              <a:off x="2569680" y="3949200"/>
              <a:ext cx="1282680" cy="262080"/>
            </a:xfrm>
            <a:prstGeom prst="line">
              <a:avLst/>
            </a:prstGeom>
            <a:ln cap="rnd" w="7632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2"/>
            <p:cNvGrpSpPr/>
            <p:nvPr/>
          </p:nvGrpSpPr>
          <p:grpSpPr>
            <a:xfrm>
              <a:off x="2043000" y="3638520"/>
              <a:ext cx="796320" cy="521640"/>
              <a:chOff x="2043000" y="3638520"/>
              <a:chExt cx="796320" cy="521640"/>
            </a:xfrm>
          </p:grpSpPr>
          <p:grpSp>
            <p:nvGrpSpPr>
              <p:cNvPr id="266" name="Oval 27"/>
              <p:cNvGrpSpPr/>
              <p:nvPr/>
            </p:nvGrpSpPr>
            <p:grpSpPr>
              <a:xfrm>
                <a:off x="2181240" y="3700080"/>
                <a:ext cx="524520" cy="460080"/>
                <a:chOff x="2181240" y="3700080"/>
                <a:chExt cx="524520" cy="460080"/>
              </a:xfrm>
            </p:grpSpPr>
            <p:pic>
              <p:nvPicPr>
                <p:cNvPr id="267" name="Oval 2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81240" y="3700080"/>
                  <a:ext cx="524520" cy="460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"/>
                <p:cNvSpPr/>
                <p:nvPr/>
              </p:nvSpPr>
              <p:spPr>
                <a:xfrm>
                  <a:off x="2300760" y="3793320"/>
                  <a:ext cx="28908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69" name="Rectangle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2043000" y="3638520"/>
                <a:ext cx="796320" cy="48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0" name="Rectangle 14"/>
          <p:cNvSpPr/>
          <p:nvPr/>
        </p:nvSpPr>
        <p:spPr>
          <a:xfrm>
            <a:off x="457200" y="1301760"/>
            <a:ext cx="73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ote: Educators should select their school or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5"/>
          <p:cNvSpPr/>
          <p:nvPr/>
        </p:nvSpPr>
        <p:spPr>
          <a:xfrm rot="6078600">
            <a:off x="8208720" y="2670120"/>
            <a:ext cx="406440" cy="514080"/>
          </a:xfrm>
          <a:custGeom>
            <a:avLst/>
            <a:gdLst>
              <a:gd name="textAreaLeft" fmla="*/ 69120 w 406440"/>
              <a:gd name="textAreaRight" fmla="*/ 268560 w 406440"/>
              <a:gd name="textAreaTop" fmla="*/ 68760 h 514080"/>
              <a:gd name="textAreaBottom" fmla="*/ 445320 h 514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75" hR="21600" stAng="10800000" swAng="5400000"/>
                <a:lnTo>
                  <a:pt x="10577" y="0"/>
                </a:lnTo>
                <a:arcTo wR="7375" hR="21600" stAng="-5400000" swAng="3861210"/>
                <a:lnTo>
                  <a:pt x="21503" y="18106"/>
                </a:lnTo>
                <a:lnTo>
                  <a:pt x="16350" y="21600"/>
                </a:lnTo>
                <a:lnTo>
                  <a:pt x="11003" y="18106"/>
                </a:lnTo>
                <a:lnTo>
                  <a:pt x="14652" y="18106"/>
                </a:lnTo>
                <a:arcTo wR="7375" hR="21600" stAng="-1538790" swAng="-3600677"/>
                <a:lnTo>
                  <a:pt x="8976" y="515"/>
                </a:lnTo>
                <a:arcTo wR="7375" hR="21600" stAng="-5660533" swAng="-5139467"/>
                <a:close/>
              </a:path>
              <a:path fill="darkenLess" w="21600" h="21600">
                <a:moveTo>
                  <a:pt x="0" y="21600"/>
                </a:moveTo>
                <a:arcTo wR="7375" hR="21600" stAng="10800000" swAng="5400000"/>
                <a:lnTo>
                  <a:pt x="7375" y="0"/>
                </a:lnTo>
                <a:arcTo wR="7375" hR="21600" stAng="-5400000" swAng="260533"/>
                <a:lnTo>
                  <a:pt x="8976" y="515"/>
                </a:lnTo>
                <a:arcTo wR="7375" hR="21600" stAng="-5660533" swAng="-5139467"/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9" descr="4-4-2010 4-33-13 PM.jpg"/>
          <p:cNvPicPr/>
          <p:nvPr/>
        </p:nvPicPr>
        <p:blipFill>
          <a:blip r:embed="rId1"/>
          <a:stretch/>
        </p:blipFill>
        <p:spPr>
          <a:xfrm>
            <a:off x="1859040" y="3132000"/>
            <a:ext cx="5600520" cy="200988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74" name="Line 5"/>
          <p:cNvSpPr/>
          <p:nvPr/>
        </p:nvSpPr>
        <p:spPr>
          <a:xfrm flipH="1">
            <a:off x="7326360" y="3646440"/>
            <a:ext cx="1001520" cy="107784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8"/>
          <p:cNvSpPr/>
          <p:nvPr/>
        </p:nvSpPr>
        <p:spPr>
          <a:xfrm>
            <a:off x="7500960" y="5729400"/>
            <a:ext cx="1434960" cy="74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574560" y="1866960"/>
            <a:ext cx="79264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3000" indent="-11430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6e.  Your school name should now appear in the Selected Organizations List. Click on 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 and Exi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val 27" descr=""/>
          <p:cNvPicPr/>
          <p:nvPr/>
        </p:nvPicPr>
        <p:blipFill>
          <a:blip r:embed="rId2"/>
          <a:stretch/>
        </p:blipFill>
        <p:spPr>
          <a:xfrm>
            <a:off x="7989840" y="3317760"/>
            <a:ext cx="730440" cy="65412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28" descr=""/>
          <p:cNvPicPr/>
          <p:nvPr/>
        </p:nvPicPr>
        <p:blipFill>
          <a:blip r:embed="rId3"/>
          <a:stretch/>
        </p:blipFill>
        <p:spPr>
          <a:xfrm>
            <a:off x="7858080" y="3230640"/>
            <a:ext cx="1004760" cy="6220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4"/>
          <p:cNvSpPr/>
          <p:nvPr/>
        </p:nvSpPr>
        <p:spPr>
          <a:xfrm>
            <a:off x="457200" y="1301760"/>
            <a:ext cx="73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ote: Educators should select their school or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8"/>
          <p:cNvSpPr/>
          <p:nvPr/>
        </p:nvSpPr>
        <p:spPr>
          <a:xfrm>
            <a:off x="7500960" y="5729400"/>
            <a:ext cx="1434960" cy="74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0" descr="4-4-2010 4-38-52 PM.jpg"/>
          <p:cNvPicPr/>
          <p:nvPr/>
        </p:nvPicPr>
        <p:blipFill>
          <a:blip r:embed="rId1"/>
          <a:stretch/>
        </p:blipFill>
        <p:spPr>
          <a:xfrm>
            <a:off x="1474920" y="3220920"/>
            <a:ext cx="6172200" cy="281016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83" name="Line 5"/>
          <p:cNvSpPr/>
          <p:nvPr/>
        </p:nvSpPr>
        <p:spPr>
          <a:xfrm flipH="1">
            <a:off x="5497560" y="3646440"/>
            <a:ext cx="2830320" cy="165420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574560" y="1866960"/>
            <a:ext cx="8298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3000" indent="-11430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6f.  Once you have returned to the profile creation page, be sure to select your Primary Organization. Click on 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Oval 27" descr=""/>
          <p:cNvPicPr/>
          <p:nvPr/>
        </p:nvPicPr>
        <p:blipFill>
          <a:blip r:embed="rId2"/>
          <a:stretch/>
        </p:blipFill>
        <p:spPr>
          <a:xfrm>
            <a:off x="7989840" y="3317760"/>
            <a:ext cx="730440" cy="654120"/>
          </a:xfrm>
          <a:prstGeom prst="rect">
            <a:avLst/>
          </a:prstGeom>
          <a:ln w="0">
            <a:noFill/>
          </a:ln>
        </p:spPr>
      </p:pic>
      <p:pic>
        <p:nvPicPr>
          <p:cNvPr id="286" name="Rectangle 28" descr=""/>
          <p:cNvPicPr/>
          <p:nvPr/>
        </p:nvPicPr>
        <p:blipFill>
          <a:blip r:embed="rId3"/>
          <a:stretch/>
        </p:blipFill>
        <p:spPr>
          <a:xfrm>
            <a:off x="7858080" y="3230640"/>
            <a:ext cx="974880" cy="622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4"/>
          <p:cNvSpPr/>
          <p:nvPr/>
        </p:nvSpPr>
        <p:spPr>
          <a:xfrm>
            <a:off x="457200" y="1301760"/>
            <a:ext cx="73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ote: Educators should select their school or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4" descr=""/>
          <p:cNvPicPr/>
          <p:nvPr/>
        </p:nvPicPr>
        <p:blipFill>
          <a:blip r:embed="rId1"/>
          <a:stretch/>
        </p:blipFill>
        <p:spPr>
          <a:xfrm>
            <a:off x="4384800" y="2322360"/>
            <a:ext cx="4459320" cy="2880000"/>
          </a:xfrm>
          <a:prstGeom prst="rect">
            <a:avLst/>
          </a:prstGeom>
          <a:ln w="0">
            <a:noFill/>
          </a:ln>
        </p:spPr>
      </p:pic>
      <p:sp>
        <p:nvSpPr>
          <p:cNvPr id="290" name="TextBox 12"/>
          <p:cNvSpPr/>
          <p:nvPr/>
        </p:nvSpPr>
        <p:spPr>
          <a:xfrm>
            <a:off x="533520" y="2297160"/>
            <a:ext cx="391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nal step of the profile creation process is to respond to two demographic questions and click on ‘Complete Profile,’ which will take you to your account home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licking on ‘Complete Profile,’ you may download the Verizon Thinkfinity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ury Kid mini-pos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504720" y="1465200"/>
            <a:ext cx="821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25640" indent="-102564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7.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te the Demographics section on pag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4"/>
          <p:cNvGrpSpPr/>
          <p:nvPr/>
        </p:nvGrpSpPr>
        <p:grpSpPr>
          <a:xfrm>
            <a:off x="5740560" y="3897000"/>
            <a:ext cx="2086920" cy="1919160"/>
            <a:chOff x="5740560" y="3897000"/>
            <a:chExt cx="2086920" cy="1919160"/>
          </a:xfrm>
        </p:grpSpPr>
        <p:sp>
          <p:nvSpPr>
            <p:cNvPr id="293" name="Line 5"/>
            <p:cNvSpPr/>
            <p:nvPr/>
          </p:nvSpPr>
          <p:spPr>
            <a:xfrm flipV="1">
              <a:off x="6100560" y="3897000"/>
              <a:ext cx="1726920" cy="1567080"/>
            </a:xfrm>
            <a:prstGeom prst="line">
              <a:avLst/>
            </a:prstGeom>
            <a:ln cap="rnd" w="7632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2"/>
            <p:cNvGrpSpPr/>
            <p:nvPr/>
          </p:nvGrpSpPr>
          <p:grpSpPr>
            <a:xfrm>
              <a:off x="5740560" y="5211720"/>
              <a:ext cx="475200" cy="604440"/>
              <a:chOff x="5740560" y="5211720"/>
              <a:chExt cx="475200" cy="604440"/>
            </a:xfrm>
          </p:grpSpPr>
          <p:grpSp>
            <p:nvGrpSpPr>
              <p:cNvPr id="295" name="Oval 8"/>
              <p:cNvGrpSpPr/>
              <p:nvPr/>
            </p:nvGrpSpPr>
            <p:grpSpPr>
              <a:xfrm>
                <a:off x="5797080" y="5313960"/>
                <a:ext cx="332280" cy="502200"/>
                <a:chOff x="5797080" y="5313960"/>
                <a:chExt cx="332280" cy="502200"/>
              </a:xfrm>
            </p:grpSpPr>
            <p:pic>
              <p:nvPicPr>
                <p:cNvPr id="296" name="Oval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97080" y="5313960"/>
                  <a:ext cx="332280" cy="50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7" name=""/>
                <p:cNvSpPr/>
                <p:nvPr/>
              </p:nvSpPr>
              <p:spPr>
                <a:xfrm>
                  <a:off x="5875560" y="5412600"/>
                  <a:ext cx="176040" cy="26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98" name="Rectangl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5740560" y="5211720"/>
                <a:ext cx="475200" cy="570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99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4-26-2010 10-49-39 AM.png"/>
          <p:cNvPicPr/>
          <p:nvPr/>
        </p:nvPicPr>
        <p:blipFill>
          <a:blip r:embed="rId1"/>
          <a:stretch/>
        </p:blipFill>
        <p:spPr>
          <a:xfrm>
            <a:off x="495360" y="1103400"/>
            <a:ext cx="4102200" cy="505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Rectangle 9"/>
          <p:cNvSpPr/>
          <p:nvPr/>
        </p:nvSpPr>
        <p:spPr>
          <a:xfrm>
            <a:off x="7227720" y="5545080"/>
            <a:ext cx="1684440" cy="8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716360" y="1668600"/>
            <a:ext cx="442764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25640" indent="-102564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1.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om the Verizon Thinkfinity homepage, click on the Professional Development tab and scroll down to the TIMS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2336760" y="2259000"/>
            <a:ext cx="3311640" cy="3648240"/>
            <a:chOff x="2336760" y="2259000"/>
            <a:chExt cx="3311640" cy="3648240"/>
          </a:xfrm>
        </p:grpSpPr>
        <p:sp>
          <p:nvSpPr>
            <p:cNvPr id="136" name="Line 5"/>
            <p:cNvSpPr/>
            <p:nvPr/>
          </p:nvSpPr>
          <p:spPr>
            <a:xfrm flipH="1">
              <a:off x="2336760" y="2612880"/>
              <a:ext cx="2962080" cy="3294360"/>
            </a:xfrm>
            <a:prstGeom prst="line">
              <a:avLst/>
            </a:prstGeom>
            <a:ln cap="rnd" w="7632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12"/>
            <p:cNvGrpSpPr/>
            <p:nvPr/>
          </p:nvGrpSpPr>
          <p:grpSpPr>
            <a:xfrm>
              <a:off x="5095800" y="2259000"/>
              <a:ext cx="552600" cy="523800"/>
              <a:chOff x="5095800" y="2259000"/>
              <a:chExt cx="552600" cy="523800"/>
            </a:xfrm>
          </p:grpSpPr>
          <p:grpSp>
            <p:nvGrpSpPr>
              <p:cNvPr id="138" name="Oval 11"/>
              <p:cNvGrpSpPr/>
              <p:nvPr/>
            </p:nvGrpSpPr>
            <p:grpSpPr>
              <a:xfrm>
                <a:off x="5161320" y="2341800"/>
                <a:ext cx="436680" cy="441000"/>
                <a:chOff x="5161320" y="2341800"/>
                <a:chExt cx="436680" cy="441000"/>
              </a:xfrm>
            </p:grpSpPr>
            <p:pic>
              <p:nvPicPr>
                <p:cNvPr id="139" name="Oval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61320" y="2341800"/>
                  <a:ext cx="436680" cy="44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"/>
                <p:cNvSpPr/>
                <p:nvPr/>
              </p:nvSpPr>
              <p:spPr>
                <a:xfrm>
                  <a:off x="5260680" y="2426760"/>
                  <a:ext cx="239760" cy="23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41" name="Rectangl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095800" y="2259000"/>
                <a:ext cx="552600" cy="50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42" name="Picture 14" descr="4-26-2010 10-50-01 AM.png"/>
          <p:cNvPicPr/>
          <p:nvPr/>
        </p:nvPicPr>
        <p:blipFill>
          <a:blip r:embed="rId4"/>
          <a:stretch/>
        </p:blipFill>
        <p:spPr>
          <a:xfrm>
            <a:off x="5291280" y="3816360"/>
            <a:ext cx="3408120" cy="5022720"/>
          </a:xfrm>
          <a:prstGeom prst="rect">
            <a:avLst/>
          </a:prstGeom>
          <a:ln w="0">
            <a:noFill/>
          </a:ln>
        </p:spPr>
      </p:pic>
      <p:sp>
        <p:nvSpPr>
          <p:cNvPr id="143" name="Line 5"/>
          <p:cNvSpPr/>
          <p:nvPr/>
        </p:nvSpPr>
        <p:spPr>
          <a:xfrm>
            <a:off x="5398920" y="2859120"/>
            <a:ext cx="609840" cy="284472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tle 4"/>
          <p:cNvSpPr/>
          <p:nvPr/>
        </p:nvSpPr>
        <p:spPr>
          <a:xfrm>
            <a:off x="4292640" y="0"/>
            <a:ext cx="48513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"/>
          <p:cNvSpPr/>
          <p:nvPr/>
        </p:nvSpPr>
        <p:spPr>
          <a:xfrm>
            <a:off x="7388280" y="5573880"/>
            <a:ext cx="1712880" cy="86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4-4-2010 11-58-15 AM.jpg"/>
          <p:cNvPicPr/>
          <p:nvPr/>
        </p:nvPicPr>
        <p:blipFill>
          <a:blip r:embed="rId1"/>
          <a:stretch/>
        </p:blipFill>
        <p:spPr>
          <a:xfrm>
            <a:off x="449280" y="2728800"/>
            <a:ext cx="8381880" cy="346896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7" name="Picture 11" descr="4-4-2010 12-00-08 PM.jpg"/>
          <p:cNvPicPr/>
          <p:nvPr/>
        </p:nvPicPr>
        <p:blipFill>
          <a:blip r:embed="rId2"/>
          <a:stretch/>
        </p:blipFill>
        <p:spPr>
          <a:xfrm>
            <a:off x="4998960" y="3565440"/>
            <a:ext cx="2090880" cy="295128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10"/>
          <p:cNvGrpSpPr/>
          <p:nvPr/>
        </p:nvGrpSpPr>
        <p:grpSpPr>
          <a:xfrm>
            <a:off x="6544800" y="1825560"/>
            <a:ext cx="2292840" cy="2266920"/>
            <a:chOff x="6544800" y="1825560"/>
            <a:chExt cx="2292840" cy="2266920"/>
          </a:xfrm>
        </p:grpSpPr>
        <p:sp>
          <p:nvSpPr>
            <p:cNvPr id="149" name="Line 5"/>
            <p:cNvSpPr/>
            <p:nvPr/>
          </p:nvSpPr>
          <p:spPr>
            <a:xfrm flipH="1">
              <a:off x="6544800" y="2205360"/>
              <a:ext cx="1989720" cy="1887120"/>
            </a:xfrm>
            <a:prstGeom prst="line">
              <a:avLst/>
            </a:prstGeom>
            <a:ln cap="rnd" w="7632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12"/>
            <p:cNvGrpSpPr/>
            <p:nvPr/>
          </p:nvGrpSpPr>
          <p:grpSpPr>
            <a:xfrm>
              <a:off x="8273880" y="1825560"/>
              <a:ext cx="563760" cy="561960"/>
              <a:chOff x="8273880" y="1825560"/>
              <a:chExt cx="563760" cy="561960"/>
            </a:xfrm>
          </p:grpSpPr>
          <p:grpSp>
            <p:nvGrpSpPr>
              <p:cNvPr id="151" name="Oval 6"/>
              <p:cNvGrpSpPr/>
              <p:nvPr/>
            </p:nvGrpSpPr>
            <p:grpSpPr>
              <a:xfrm>
                <a:off x="8332920" y="1936800"/>
                <a:ext cx="445680" cy="450720"/>
                <a:chOff x="8332920" y="1936800"/>
                <a:chExt cx="445680" cy="450720"/>
              </a:xfrm>
            </p:grpSpPr>
            <p:pic>
              <p:nvPicPr>
                <p:cNvPr id="152" name="Oval 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32920" y="1936800"/>
                  <a:ext cx="445680" cy="450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" name=""/>
                <p:cNvSpPr/>
                <p:nvPr/>
              </p:nvSpPr>
              <p:spPr>
                <a:xfrm>
                  <a:off x="8435880" y="2023920"/>
                  <a:ext cx="244440" cy="23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4" name="Rectangle 7" descr=""/>
              <p:cNvPicPr/>
              <p:nvPr/>
            </p:nvPicPr>
            <p:blipFill>
              <a:blip r:embed="rId4"/>
              <a:stretch/>
            </p:blipFill>
            <p:spPr>
              <a:xfrm>
                <a:off x="8273880" y="1825560"/>
                <a:ext cx="563760" cy="51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5" name="Title 4"/>
          <p:cNvSpPr/>
          <p:nvPr/>
        </p:nvSpPr>
        <p:spPr>
          <a:xfrm>
            <a:off x="4292640" y="0"/>
            <a:ext cx="48513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41280" y="1515960"/>
            <a:ext cx="77724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66960" indent="-96696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1. (Alternative)  You can also access TIMS from within the Verizon Thinkfinity Community. Go to the Professional Development Community and click on the 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’ t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0" descr="4-4-2010 12-06-03 PM.jpg"/>
          <p:cNvPicPr/>
          <p:nvPr/>
        </p:nvPicPr>
        <p:blipFill>
          <a:blip r:embed="rId1"/>
          <a:srcRect l="0" t="24886" r="0" b="0"/>
          <a:stretch/>
        </p:blipFill>
        <p:spPr>
          <a:xfrm>
            <a:off x="1566720" y="2946240"/>
            <a:ext cx="6216840" cy="281808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8" name="Text Box 3"/>
          <p:cNvSpPr/>
          <p:nvPr/>
        </p:nvSpPr>
        <p:spPr>
          <a:xfrm>
            <a:off x="504720" y="1311120"/>
            <a:ext cx="8407440" cy="15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25640" indent="-102564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2.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reate a ‘TIMS’ account by clicking on the “</a:t>
            </a:r>
            <a:r>
              <a:rPr b="1" lang="en-US" sz="2000" spc="-1" strike="noStrike">
                <a:solidFill>
                  <a:srgbClr val="3f7e00"/>
                </a:solidFill>
                <a:latin typeface="Arial"/>
              </a:rPr>
              <a:t>Not a user? Sign up now!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”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6825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ote: Your Login ID will default to your e-mail address and you can choose your password. You can change your Login ID once you have completed the registration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1276200" y="4724280"/>
            <a:ext cx="640080" cy="62100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2"/>
          <p:cNvGrpSpPr/>
          <p:nvPr/>
        </p:nvGrpSpPr>
        <p:grpSpPr>
          <a:xfrm>
            <a:off x="743040" y="4343400"/>
            <a:ext cx="533160" cy="584280"/>
            <a:chOff x="743040" y="4343400"/>
            <a:chExt cx="533160" cy="584280"/>
          </a:xfrm>
        </p:grpSpPr>
        <p:grpSp>
          <p:nvGrpSpPr>
            <p:cNvPr id="161" name="Oval 8"/>
            <p:cNvGrpSpPr/>
            <p:nvPr/>
          </p:nvGrpSpPr>
          <p:grpSpPr>
            <a:xfrm>
              <a:off x="817560" y="4439880"/>
              <a:ext cx="417600" cy="487800"/>
              <a:chOff x="817560" y="4439880"/>
              <a:chExt cx="417600" cy="487800"/>
            </a:xfrm>
          </p:grpSpPr>
          <p:pic>
            <p:nvPicPr>
              <p:cNvPr id="162" name="Oval 8" descr=""/>
              <p:cNvPicPr/>
              <p:nvPr/>
            </p:nvPicPr>
            <p:blipFill>
              <a:blip r:embed="rId2"/>
              <a:stretch/>
            </p:blipFill>
            <p:spPr>
              <a:xfrm>
                <a:off x="817560" y="4439880"/>
                <a:ext cx="417600" cy="48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913320" y="4536000"/>
                <a:ext cx="23076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4" name="Rectangle 9" descr=""/>
            <p:cNvPicPr/>
            <p:nvPr/>
          </p:nvPicPr>
          <p:blipFill>
            <a:blip r:embed="rId3"/>
            <a:stretch/>
          </p:blipFill>
          <p:spPr>
            <a:xfrm>
              <a:off x="743040" y="4343400"/>
              <a:ext cx="533160" cy="55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893960" y="5300640"/>
            <a:ext cx="1317600" cy="208080"/>
          </a:xfrm>
          <a:prstGeom prst="rect">
            <a:avLst/>
          </a:prstGeom>
          <a:solidFill>
            <a:srgbClr val="ffff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" descr="4-4-2010 4-14-21 PM.jpg"/>
          <p:cNvPicPr/>
          <p:nvPr/>
        </p:nvPicPr>
        <p:blipFill>
          <a:blip r:embed="rId1"/>
          <a:stretch/>
        </p:blipFill>
        <p:spPr>
          <a:xfrm>
            <a:off x="4849920" y="2274840"/>
            <a:ext cx="4217760" cy="419904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8" name="Text Box 3"/>
          <p:cNvSpPr/>
          <p:nvPr/>
        </p:nvSpPr>
        <p:spPr>
          <a:xfrm>
            <a:off x="504720" y="1465200"/>
            <a:ext cx="81536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25640" indent="-102564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3.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te the Age Verification and Login Information sections of pag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1"/>
          <p:cNvGrpSpPr/>
          <p:nvPr/>
        </p:nvGrpSpPr>
        <p:grpSpPr>
          <a:xfrm>
            <a:off x="2405160" y="4379760"/>
            <a:ext cx="2651040" cy="584280"/>
            <a:chOff x="2405160" y="4379760"/>
            <a:chExt cx="2651040" cy="584280"/>
          </a:xfrm>
        </p:grpSpPr>
        <p:sp>
          <p:nvSpPr>
            <p:cNvPr id="170" name="Line 5"/>
            <p:cNvSpPr/>
            <p:nvPr/>
          </p:nvSpPr>
          <p:spPr>
            <a:xfrm flipV="1">
              <a:off x="2962080" y="4626720"/>
              <a:ext cx="2094120" cy="65520"/>
            </a:xfrm>
            <a:prstGeom prst="line">
              <a:avLst/>
            </a:prstGeom>
            <a:ln cap="rnd" w="7632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Oval 8"/>
            <p:cNvGrpSpPr/>
            <p:nvPr/>
          </p:nvGrpSpPr>
          <p:grpSpPr>
            <a:xfrm>
              <a:off x="2502000" y="4491720"/>
              <a:ext cx="639360" cy="472320"/>
              <a:chOff x="2502000" y="4491720"/>
              <a:chExt cx="639360" cy="472320"/>
            </a:xfrm>
          </p:grpSpPr>
          <p:pic>
            <p:nvPicPr>
              <p:cNvPr id="172" name="Oval 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2000" y="4491720"/>
                <a:ext cx="639360" cy="47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2646720" y="4583160"/>
                <a:ext cx="353160" cy="24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4" name="Rectangle 9" descr=""/>
            <p:cNvPicPr/>
            <p:nvPr/>
          </p:nvPicPr>
          <p:blipFill>
            <a:blip r:embed="rId3"/>
            <a:stretch/>
          </p:blipFill>
          <p:spPr>
            <a:xfrm>
              <a:off x="2405160" y="4379760"/>
              <a:ext cx="816120" cy="53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TextBox 12"/>
          <p:cNvSpPr/>
          <p:nvPr/>
        </p:nvSpPr>
        <p:spPr>
          <a:xfrm>
            <a:off x="544680" y="2297160"/>
            <a:ext cx="391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part of page 1 of the account creation process requests age verification, your e-mail address (which will be your login ID), a password, and a secret question and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504720" y="1465200"/>
            <a:ext cx="815364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25640" indent="-102564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4a. Respond to Referral Information on pag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5640" indent="-102564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533520" y="2297160"/>
            <a:ext cx="343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first question will result in a list of choices related to professional development experi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5" descr=""/>
          <p:cNvPicPr/>
          <p:nvPr/>
        </p:nvPicPr>
        <p:blipFill>
          <a:blip r:embed="rId1"/>
          <a:stretch/>
        </p:blipFill>
        <p:spPr>
          <a:xfrm>
            <a:off x="3786120" y="2070000"/>
            <a:ext cx="5062680" cy="365940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4"/>
          <p:cNvGrpSpPr/>
          <p:nvPr/>
        </p:nvGrpSpPr>
        <p:grpSpPr>
          <a:xfrm>
            <a:off x="1617840" y="3762000"/>
            <a:ext cx="2190240" cy="714600"/>
            <a:chOff x="1617840" y="3762000"/>
            <a:chExt cx="2190240" cy="714600"/>
          </a:xfrm>
        </p:grpSpPr>
        <p:sp>
          <p:nvSpPr>
            <p:cNvPr id="182" name="Line 5"/>
            <p:cNvSpPr/>
            <p:nvPr/>
          </p:nvSpPr>
          <p:spPr>
            <a:xfrm flipV="1">
              <a:off x="2095200" y="3762000"/>
              <a:ext cx="1712880" cy="498600"/>
            </a:xfrm>
            <a:prstGeom prst="line">
              <a:avLst/>
            </a:prstGeom>
            <a:ln cap="rnd" w="7632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2"/>
            <p:cNvGrpSpPr/>
            <p:nvPr/>
          </p:nvGrpSpPr>
          <p:grpSpPr>
            <a:xfrm>
              <a:off x="1617840" y="4019400"/>
              <a:ext cx="568080" cy="457200"/>
              <a:chOff x="1617840" y="4019400"/>
              <a:chExt cx="568080" cy="457200"/>
            </a:xfrm>
          </p:grpSpPr>
          <p:grpSp>
            <p:nvGrpSpPr>
              <p:cNvPr id="184" name="Oval 8"/>
              <p:cNvGrpSpPr/>
              <p:nvPr/>
            </p:nvGrpSpPr>
            <p:grpSpPr>
              <a:xfrm>
                <a:off x="1681560" y="4056480"/>
                <a:ext cx="452160" cy="420120"/>
                <a:chOff x="1681560" y="4056480"/>
                <a:chExt cx="452160" cy="420120"/>
              </a:xfrm>
            </p:grpSpPr>
            <p:pic>
              <p:nvPicPr>
                <p:cNvPr id="185" name="Oval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81560" y="4056480"/>
                  <a:ext cx="452160" cy="42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>
                  <a:off x="1785960" y="4141080"/>
                  <a:ext cx="247680" cy="2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87" name="Rectangl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617840" y="4019400"/>
                <a:ext cx="568080" cy="365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" name="TextBox 12"/>
          <p:cNvSpPr/>
          <p:nvPr/>
        </p:nvSpPr>
        <p:spPr>
          <a:xfrm>
            <a:off x="457200" y="5073480"/>
            <a:ext cx="30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 sure to check the box to indicate that you agree to the User Agreement Te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 flipV="1">
            <a:off x="3243240" y="5187600"/>
            <a:ext cx="582480" cy="29844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504720" y="1465200"/>
            <a:ext cx="815364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25640" indent="-102564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4b. Respond to Referral Information on pag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5640" indent="-102564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Oval 8"/>
          <p:cNvGrpSpPr/>
          <p:nvPr/>
        </p:nvGrpSpPr>
        <p:grpSpPr>
          <a:xfrm>
            <a:off x="1566720" y="4041720"/>
            <a:ext cx="682920" cy="615960"/>
            <a:chOff x="1566720" y="4041720"/>
            <a:chExt cx="682920" cy="615960"/>
          </a:xfrm>
        </p:grpSpPr>
        <p:pic>
          <p:nvPicPr>
            <p:cNvPr id="192" name="Oval 8" descr=""/>
            <p:cNvPicPr/>
            <p:nvPr/>
          </p:nvPicPr>
          <p:blipFill>
            <a:blip r:embed="rId1"/>
            <a:stretch/>
          </p:blipFill>
          <p:spPr>
            <a:xfrm>
              <a:off x="1566720" y="4041720"/>
              <a:ext cx="6829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720800" y="4164120"/>
              <a:ext cx="37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12"/>
          <p:cNvSpPr/>
          <p:nvPr/>
        </p:nvSpPr>
        <p:spPr>
          <a:xfrm>
            <a:off x="533520" y="2297160"/>
            <a:ext cx="301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first question will result in a list of choices asking what prompted you to create an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5" descr=""/>
          <p:cNvPicPr/>
          <p:nvPr/>
        </p:nvPicPr>
        <p:blipFill>
          <a:blip r:embed="rId2"/>
          <a:stretch/>
        </p:blipFill>
        <p:spPr>
          <a:xfrm>
            <a:off x="3638520" y="2073240"/>
            <a:ext cx="5207040" cy="346068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3"/>
          <p:cNvGrpSpPr/>
          <p:nvPr/>
        </p:nvGrpSpPr>
        <p:grpSpPr>
          <a:xfrm>
            <a:off x="1487520" y="3587400"/>
            <a:ext cx="2239560" cy="960840"/>
            <a:chOff x="1487520" y="3587400"/>
            <a:chExt cx="2239560" cy="960840"/>
          </a:xfrm>
        </p:grpSpPr>
        <p:sp>
          <p:nvSpPr>
            <p:cNvPr id="198" name="Line 5"/>
            <p:cNvSpPr/>
            <p:nvPr/>
          </p:nvSpPr>
          <p:spPr>
            <a:xfrm flipV="1">
              <a:off x="2100240" y="3587400"/>
              <a:ext cx="1626840" cy="693720"/>
            </a:xfrm>
            <a:prstGeom prst="line">
              <a:avLst/>
            </a:prstGeom>
            <a:ln cap="rnd" w="7632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Rectangle 13" descr=""/>
            <p:cNvPicPr/>
            <p:nvPr/>
          </p:nvPicPr>
          <p:blipFill>
            <a:blip r:embed="rId3"/>
            <a:stretch/>
          </p:blipFill>
          <p:spPr>
            <a:xfrm>
              <a:off x="1487520" y="4011480"/>
              <a:ext cx="875160" cy="5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Box 12"/>
          <p:cNvSpPr/>
          <p:nvPr/>
        </p:nvSpPr>
        <p:spPr>
          <a:xfrm>
            <a:off x="403200" y="4778280"/>
            <a:ext cx="30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 sure to check the box to indicate that you agree to the User Agreement Te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 flipV="1">
            <a:off x="3189240" y="4893840"/>
            <a:ext cx="581040" cy="29844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504720" y="1465200"/>
            <a:ext cx="815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25640" indent="-102564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5.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te Contact Information on pag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1771560" y="3500280"/>
            <a:ext cx="2757600" cy="584280"/>
            <a:chOff x="1771560" y="3500280"/>
            <a:chExt cx="2757600" cy="584280"/>
          </a:xfrm>
        </p:grpSpPr>
        <p:sp>
          <p:nvSpPr>
            <p:cNvPr id="204" name="Line 5"/>
            <p:cNvSpPr/>
            <p:nvPr/>
          </p:nvSpPr>
          <p:spPr>
            <a:xfrm flipV="1">
              <a:off x="2257200" y="3655800"/>
              <a:ext cx="2271960" cy="139680"/>
            </a:xfrm>
            <a:prstGeom prst="line">
              <a:avLst/>
            </a:prstGeom>
            <a:ln cap="rnd" w="7632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12"/>
            <p:cNvGrpSpPr/>
            <p:nvPr/>
          </p:nvGrpSpPr>
          <p:grpSpPr>
            <a:xfrm>
              <a:off x="1771560" y="3500280"/>
              <a:ext cx="554040" cy="584280"/>
              <a:chOff x="1771560" y="3500280"/>
              <a:chExt cx="554040" cy="584280"/>
            </a:xfrm>
          </p:grpSpPr>
          <p:grpSp>
            <p:nvGrpSpPr>
              <p:cNvPr id="206" name="Oval 8"/>
              <p:cNvGrpSpPr/>
              <p:nvPr/>
            </p:nvGrpSpPr>
            <p:grpSpPr>
              <a:xfrm>
                <a:off x="1837440" y="3604680"/>
                <a:ext cx="434160" cy="479880"/>
                <a:chOff x="1837440" y="3604680"/>
                <a:chExt cx="434160" cy="479880"/>
              </a:xfrm>
            </p:grpSpPr>
            <p:pic>
              <p:nvPicPr>
                <p:cNvPr id="207" name="Oval 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837440" y="3604680"/>
                  <a:ext cx="434160" cy="479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8" name=""/>
                <p:cNvSpPr/>
                <p:nvPr/>
              </p:nvSpPr>
              <p:spPr>
                <a:xfrm>
                  <a:off x="1936080" y="3697560"/>
                  <a:ext cx="2401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9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771560" y="3500280"/>
                <a:ext cx="554040" cy="54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0" name="TextBox 12"/>
          <p:cNvSpPr/>
          <p:nvPr/>
        </p:nvSpPr>
        <p:spPr>
          <a:xfrm>
            <a:off x="522360" y="2297160"/>
            <a:ext cx="39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2 of the account creation process requests specific contact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4" descr=""/>
          <p:cNvPicPr/>
          <p:nvPr/>
        </p:nvPicPr>
        <p:blipFill>
          <a:blip r:embed="rId3"/>
          <a:stretch/>
        </p:blipFill>
        <p:spPr>
          <a:xfrm>
            <a:off x="4552920" y="1881360"/>
            <a:ext cx="4192560" cy="385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504720" y="1465200"/>
            <a:ext cx="815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3000" indent="-11430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6a. Complete page 3 of the account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1238400" y="3832200"/>
            <a:ext cx="2419200" cy="584280"/>
            <a:chOff x="1238400" y="3832200"/>
            <a:chExt cx="2419200" cy="584280"/>
          </a:xfrm>
        </p:grpSpPr>
        <p:sp>
          <p:nvSpPr>
            <p:cNvPr id="215" name="Line 5"/>
            <p:cNvSpPr/>
            <p:nvPr/>
          </p:nvSpPr>
          <p:spPr>
            <a:xfrm flipV="1">
              <a:off x="1839960" y="3832200"/>
              <a:ext cx="1817640" cy="312480"/>
            </a:xfrm>
            <a:prstGeom prst="line">
              <a:avLst/>
            </a:prstGeom>
            <a:ln cap="rnd" w="7632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12"/>
            <p:cNvGrpSpPr/>
            <p:nvPr/>
          </p:nvGrpSpPr>
          <p:grpSpPr>
            <a:xfrm>
              <a:off x="1238400" y="3930480"/>
              <a:ext cx="741240" cy="486000"/>
              <a:chOff x="1238400" y="3930480"/>
              <a:chExt cx="741240" cy="486000"/>
            </a:xfrm>
          </p:grpSpPr>
          <p:grpSp>
            <p:nvGrpSpPr>
              <p:cNvPr id="217" name="Oval 8"/>
              <p:cNvGrpSpPr/>
              <p:nvPr/>
            </p:nvGrpSpPr>
            <p:grpSpPr>
              <a:xfrm>
                <a:off x="1338480" y="4001040"/>
                <a:ext cx="514080" cy="415440"/>
                <a:chOff x="1338480" y="4001040"/>
                <a:chExt cx="514080" cy="415440"/>
              </a:xfrm>
            </p:grpSpPr>
            <p:pic>
              <p:nvPicPr>
                <p:cNvPr id="218" name="Oval 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38480" y="4001040"/>
                  <a:ext cx="514080" cy="41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9" name=""/>
                <p:cNvSpPr/>
                <p:nvPr/>
              </p:nvSpPr>
              <p:spPr>
                <a:xfrm>
                  <a:off x="1456560" y="4082040"/>
                  <a:ext cx="281880" cy="22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0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8400" y="3930480"/>
                <a:ext cx="741240" cy="415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1" name="TextBox 12"/>
          <p:cNvSpPr/>
          <p:nvPr/>
        </p:nvSpPr>
        <p:spPr>
          <a:xfrm>
            <a:off x="522360" y="2297160"/>
            <a:ext cx="317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3 of the account creation process requests that you identify your area(s) of responsi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5" descr=""/>
          <p:cNvPicPr/>
          <p:nvPr/>
        </p:nvPicPr>
        <p:blipFill>
          <a:blip r:embed="rId3"/>
          <a:stretch/>
        </p:blipFill>
        <p:spPr>
          <a:xfrm>
            <a:off x="3675240" y="1857240"/>
            <a:ext cx="4041720" cy="394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23:09:39Z</dcterms:created>
  <dc:creator>Landor Associates</dc:creator>
  <dc:description/>
  <dc:language>en-US</dc:language>
  <cp:lastModifiedBy> </cp:lastModifiedBy>
  <cp:lastPrinted>2007-11-14T22:17:39Z</cp:lastPrinted>
  <dcterms:modified xsi:type="dcterms:W3CDTF">2010-11-03T03:37:40Z</dcterms:modified>
  <cp:revision>987</cp:revision>
  <dc:subject/>
  <dc:title>Slide 1</dc:title>
</cp:coreProperties>
</file>